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C9D-F2A8-47D6-AD55-B3817688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47B-B76A-4B4E-B89E-736C995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382-82AA-4C58-95E2-0C2735C8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2D5-8873-4618-869E-FBA41B4C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03C-045E-433F-9BC8-7CBC6AA1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FD8-AD6E-486D-8663-11D32C3A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4A8-797C-4159-BE4F-E5A2A26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771-503D-4399-80FB-004B045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B2A-5E9D-45FE-9EDE-2E9754DB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B17-1F07-40F6-AE0F-6045891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BB1-D7D1-414F-A1ED-FB1DD2E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D30-B359-4B9F-867E-347FBE0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F46B-0BF7-4B31-A0F7-3CEBB5EC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агностика для детей старшего возраста по 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я ребёнка строить изображения по линии штри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веди штрихов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обводит изображение по штрихов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3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я ребёнка строить изображения по предложенным точкам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 точки в заданном направлении так, что бы получился какой-то определённы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выполняет задание, соединяя точки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32004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600200"/>
          <a:ext cx="7859880" cy="3774960"/>
        </p:xfrm>
        <a:graphic>
          <a:graphicData uri="http://schemas.openxmlformats.org/drawingml/2006/table">
            <a:tbl>
              <a:tblPr/>
              <a:tblGrid>
                <a:gridCol w="3930840"/>
                <a:gridCol w="3929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оцено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,6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 – 2,3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 – 3 бал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уровней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зкий урове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умеет или отказывается проводить прямую линию, отрывает карандаш от бумаги, не умеет штриховать в заданном направлении, затрудняется строить на листе бумаги различные предметы с помощью ломанных линий, не умеет создавать графические изображения с опорой на образец, соединять точки с помощью линейки, не умеет строить отрезки при помощи циркуля или линейки, затрудняется строить изображения с осью симметрии, затрудняется дорисовывать недостающие детали в предметах, не может строить изображения по линии штриховки и так же строить изображения по предложенным точкам в задан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бёнок проводит прямую линию, но отрывает карандаш от бумаги, с незначительными затруднениями штрихует фигуры в заданном направлении, испытывает некоторые трудности в построении на листе бумаги различных предметов с помощью ломанных линий, затрудняется в создании графических изображений с опорой на образец, затрудняется в соединении точек с помощью линейки, испытывает трудности в правильном построении отрезков с помощью циркуля и линейки, так же имеет не значительные трудности в умении строить изображение с осью симметрии, испытывает затруднения в дорисовывании недостающих деталей в предметах и в построении изображений по линии штриховки, так же в строительстве изображений по предложенным точкам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сокий урове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ребёнок с лёгкостью проводит прямую линию не отрывая от бумаги карандаша, умеет штриховать фигуру в заданном направлении, с лёгкостью строит на листе бумаги различные предметы с помощью ломанных линий, создаёт графическое изображение с опорой на образец, умеет соединят точки с помощью линейки, строить изображение по линии штриховки и по предложенным точкам в заданном направлении, правильно строит отрезки с помощью циркуля и линейки, строит изображение с осью симметрии, с лёгкостью дорисовывает недостающие детали в предм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ить умение ребёнка проводить прямую линию не отрывая карандаш от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ла летит к цели. Не отрывай карандаш от бумаги и не останавливайся пока стрела не попадет в яблоко. Линия должна быть прямой и ро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бал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не отрывая карандаша проводит прямую ли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провёл линию недостаточно ровно, отрывая карандаш от бумаги 1-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или отказывается его выполнять, линия прерывистая, не р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16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штриховать фигуры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можешь помочь этим цветам. Устрой им хороший дождь. Цветы его давно ж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ебёнок не отрывая карандаш штрихует в задан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 при направлении штрих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штрихует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629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строить на листе бумаги различные предметы с помощью ломанных 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тобой художник изобразил предметы, но не успел их дорисовать. Закончи рисунки так, чтобы получились предметы и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правильно выполняет задание, не допуская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рисовании ребёнок допускает небольш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ыполняет задание не в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36576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 умение ребёнка создавать графические изображения с опорой на образ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а по точкам нарисуй такой же квадрат, как нарисован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строит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857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явить умение детей соединять точки с помощью лин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едини эти точки с помощью линейки так, чтобы получился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ёнок правильно соединяет точки, используя лин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ребёнок допускает небольши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 верно выполняет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089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детей правильно строить отрезки с помощью циркуля и лин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яц взял циркуль, розовый карандаш, линейку и начертил 5 отрезков одинаковой длины. Все отрезки зайца имеют один общ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строит отрезки, пользуясь линейкой и цирк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ошибки при по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не верно выполняет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200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ить умение ребёнка строить изображение с осью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рисуй вторую половину рисунка симметрично зад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выполняет задание, не допуская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08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умение ребёнка дорисовывать недостающие детали в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рисуй линии так, что бы получились прямоуголь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ок правильно дорисовывает детали в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при рисовании предметов допускает незначительны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бёнок выполняет задание не 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086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5:56:17Z</dcterms:created>
  <dc:creator>xakep</dc:creator>
  <dc:description/>
  <dc:language>en-US</dc:language>
  <cp:lastModifiedBy>студент</cp:lastModifiedBy>
  <dcterms:modified xsi:type="dcterms:W3CDTF">2010-12-24T08:13:40Z</dcterms:modified>
  <cp:revision>3</cp:revision>
  <dc:subject/>
  <dc:title>Диагностика для детей старшего возраста по кодированию графической информации</dc:title>
</cp:coreProperties>
</file>